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E0C-71C6-41D4-A248-63331ACC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70B-3E7F-45F9-8C6C-C26F673B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3FE-E82C-4768-ADC0-8F9C52C7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AEF-92F9-499A-BC54-A4132A5D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7FDB-A7EC-460A-8B28-2547A257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21B3-CFBF-4F0F-A08C-45A4A129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A6F1-CB65-46F7-918A-35DA71A3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F0FF-2991-4BD0-A284-3C60D894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0D16-1003-4B27-83BC-05D5A78E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DE42-E456-48CD-B873-AFB3A1E2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4BAF-8126-48F2-B22D-A83A6C9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85B-3699-4430-8B60-6FA42341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63E5-D1D2-4DE1-B4FA-D360DD6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3CA1-7977-4478-8607-F24F4F4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EF3D-F225-42A7-8168-26BF249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3045-5F2D-4111-85C9-CA030630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8A3C-C934-4283-A6E5-6E93DD10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C7A-62C0-4EED-A96F-742F7E07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C22-14B2-48F1-8D36-EF44DFD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EC9-694E-471D-B7D0-192E890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450-72EF-46C3-9ECA-867D52FB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3D4-6A6C-49DE-A779-E10C213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0CE-2405-4A98-AF33-D65D984F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8B7-D121-479D-89E1-0AF85DF7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7865-583B-45B0-AAAB-559C26874F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7129-9A80-4AD7-A84C-AA09152B13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My%20Videos/video.mp4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8000" spc="-1" strike="noStrike">
                <a:solidFill>
                  <a:srgbClr val="b9efee"/>
                </a:solidFill>
                <a:latin typeface="Jokerman"/>
              </a:rPr>
              <a:t>CONFLICT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32148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</a:t>
            </a:r>
            <a:br>
              <a:rPr sz="5400"/>
            </a:b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70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Teddy Bear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uppression, Accommodating, Lose-Wi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Act as though nothing is the matter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Put up with it for the sake of peac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tay cheerful, but refuse to talk about the problem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Often be cross with yourself afterward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</a:t>
            </a:r>
            <a:br>
              <a:rPr sz="5400"/>
            </a:b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92360" y="2997360"/>
            <a:ext cx="7005600" cy="33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Shark –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Aggressive, control, win-los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et out to prove the other is wro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Refuse to take NO for an answer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hout them dow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Outsmart them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Lay down the law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26161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</a:t>
            </a:r>
            <a:br>
              <a:rPr sz="5400"/>
            </a:b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2349360"/>
            <a:ext cx="62024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Fox –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Compromising, win some – lose som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Do what’s fair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Divide equally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Avoid a clash of will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Make concessions to keep friendship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Gain something for yourself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Give a bit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1601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</a:t>
            </a:r>
            <a:br>
              <a:rPr sz="5400"/>
            </a:b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79280" y="2565360"/>
            <a:ext cx="67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Owl –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Co-operative problem solving – win-wi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I want to win but I want you to win too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I will state my needs and listen to yours too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Brainstorm ideas to solve the problem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Make concessions to keep friendship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Negotiate a mutually acceptable solut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1782720" cy="2922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-22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Turtle – Denial, avoid, withdrawal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Lose - Los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Teddy Bear – Suppression, Accommodating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Lose – Wi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hark – Aggressive, control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Win-Los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Fox – Compromis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Win some – Lose som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Owl – Co-operative problem solv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Win - Wi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60804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747720" cy="747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68360" y="2592360"/>
            <a:ext cx="103176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26920" y="3716280"/>
            <a:ext cx="506520" cy="733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900000" y="4941720"/>
            <a:ext cx="55404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Constructive vs Destructiv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onstructive              Conflict              Destru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1. Establish real issue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1. Real issue never establish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2. Stick to the point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2. Don’t stick to the po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3. Try to understand each other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3. No attempt to understand ea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4. Don’t attack or hurt each other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4. Attack at every opportun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5. Be willing to compromise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5. Neither will compromi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Garamond"/>
              </a:rPr>
              <a:t>There are at least three ways of handling conflic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ffff"/>
                </a:solidFill>
                <a:latin typeface="Garamond"/>
              </a:rPr>
              <a:t>Denial                          Aggression                         Assertive Problem Solv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700360" y="1916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5640" y="191628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Resolving Conflict - Bully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Garamond"/>
              </a:rPr>
              <a:t>Types of Bully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Verbal putdowns and ab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Emotional blackmail – pity tri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Spreading rumou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Isolating one pers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Physical abuse of persons 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personal proper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Stand over tactics/manipula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behaviou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Garamond"/>
              </a:rPr>
              <a:t>Some Suggested Respon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Building good self este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Use of “I” state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Clear communic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Confronting assertively, no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aggressive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Developing empath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Respect for oth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Co-opera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Power with rather than power 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348000" y="5373720"/>
            <a:ext cx="18064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691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Link to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059280" y="1916280"/>
            <a:ext cx="2604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9efee"/>
                </a:solidFill>
                <a:latin typeface="Jokerman"/>
              </a:rPr>
              <a:t>Mediation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Mediation is a PROCESS that uses a third person to HELP the people in a conflict to come up with their OWN solution for a WIN-WIN outcom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64000" y="4292640"/>
            <a:ext cx="18097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b9efee"/>
                </a:solidFill>
                <a:latin typeface="Jokerman"/>
              </a:rPr>
              <a:t>Remember:</a:t>
            </a:r>
            <a:endParaRPr b="1" lang="en-US" sz="5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The more you express your ideas and point of view, the more you CLARIFY your posi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Your voice has more choice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857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Hands up – Argument or Confli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Pairshare – One thing you are good 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- One way you deal with confli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- One thing I’d like to change abo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 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rainstorm – What is conflic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b9efee"/>
                </a:solidFill>
                <a:latin typeface="Jokerman"/>
              </a:rPr>
              <a:t>What is conflict?</a:t>
            </a:r>
            <a:endParaRPr b="1" lang="en-US" sz="5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urt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Argu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ate                                         Disagre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Pain                                                                    An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hat are some other feelings you relate to conflic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068640"/>
            <a:ext cx="259236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4000" y="3429000"/>
            <a:ext cx="19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fli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403280" y="1989000"/>
            <a:ext cx="216072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211640" y="2565360"/>
            <a:ext cx="21600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0000" y="3068640"/>
            <a:ext cx="432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692000" y="3141360"/>
            <a:ext cx="1439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403280" y="4005360"/>
            <a:ext cx="17287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93372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b9efee"/>
                </a:solidFill>
                <a:latin typeface="Jokerman"/>
              </a:rPr>
              <a:t>Conflict VS Violence?</a:t>
            </a:r>
            <a:endParaRPr b="1" lang="en-US" sz="5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Conflict and violence are </a:t>
            </a:r>
            <a:r>
              <a:rPr b="1" i="1" lang="en-NZ" sz="40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the same thing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Violence is a CHOICE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51280" y="4365720"/>
            <a:ext cx="1143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Confli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ctual or Perceived opposition of someone's needs, wants or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Internal confli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onflict between two individu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ffects people, sometimes in unpleasant 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Often affects more people than just the ones involved eg. Their circle of friends or teachers parents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Conflict Resolu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0040" y="2491920"/>
            <a:ext cx="822960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lict Re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-win- both parties get what they want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-lose- one party gets what they w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e-lose both parties don't get what they w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Confli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12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sh of interests, values, actions or dir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 sparks a conflict. The word is applic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the instant that the clash occurs. Even w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say that there is a potential conflict we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ying that there is already a conflict of dir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 though a clash may not yet have occur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0" spc="-1" strike="noStrike">
                <a:solidFill>
                  <a:srgbClr val="ffffff"/>
                </a:solidFill>
                <a:latin typeface="Jokerman"/>
              </a:rPr>
              <a:t>Conflict Styles in 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0" spc="-1" strike="noStrike">
                <a:solidFill>
                  <a:srgbClr val="ffffff"/>
                </a:solidFill>
                <a:latin typeface="Jokerman"/>
              </a:rPr>
              <a:t>Youth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4508640"/>
            <a:ext cx="259236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Turtle</a:t>
            </a: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en-NZ" sz="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Denial, avoid, withdrawl, Lose-los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top talking, punish with silenc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Walk away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ulk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Become Resentful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1571400" cy="18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1:08:01Z</dcterms:created>
  <dc:creator>Ministry of Education</dc:creator>
  <dc:description/>
  <dc:language>en-US</dc:language>
  <cp:lastModifiedBy>Ministry of Education</cp:lastModifiedBy>
  <dcterms:modified xsi:type="dcterms:W3CDTF">2010-04-29T23:21:48Z</dcterms:modified>
  <cp:revision>22</cp:revision>
  <dc:subject/>
  <dc:title>Conflict Styles in Youth</dc:title>
</cp:coreProperties>
</file>